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1CF9-FDD9-43CB-9F10-F03B7B0758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abo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 is RWM really planned? What is the process? Who does what? Formal and informal influence? If some important actors have no say in planning,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farmers think their needs are well understood by planners? Do planners think that they have a good understanding of issues on the ground?</a:t>
            </a:r>
            <a:endParaRPr b="0" lang="en-US" sz="1200" spc="-1" strike="noStrike">
              <a:solidFill>
                <a:srgbClr val="000000"/>
              </a:solidFill>
              <a:latin typeface="Calibri"/>
            </a:endParaRPr>
          </a:p>
        </p:txBody>
      </p:sp>
      <p:sp>
        <p:nvSpPr>
          <p:cNvPr id="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4E3B-2434-4054-952F-216E2E8FD56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basic facts on what is being done and why they were chos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oles of actors – who, what, where, how do they coordinate – or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level of knowledge/capacity </a:t>
            </a:r>
            <a:r>
              <a:rPr b="0" lang="en-GB" sz="1200" spc="-1" strike="noStrike">
                <a:solidFill>
                  <a:srgbClr val="000000"/>
                </a:solidFill>
                <a:latin typeface="Wingdings"/>
                <a:ea typeface="Wingdings"/>
              </a:rPr>
              <a:t></a:t>
            </a:r>
            <a:r>
              <a:rPr b="0" lang="en-GB" sz="1200" spc="-1" strike="noStrike">
                <a:solidFill>
                  <a:srgbClr val="000000"/>
                </a:solidFill>
                <a:latin typeface="Calibri"/>
              </a:rPr>
              <a:t> because one aim of the CPWF is building capacity, and we need a baseline. Also to understand whether lack of knowledge is a constraint to implementation of RW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 actors support each other – with advice, with guidance, with training, with financial support, with information, with practical help. This is important scoping information to understand the relationships different actors have (which will determine what gaps there are in support and also inform what kind of strategies are likely to work at improving RW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effort is there to monitor experiences of RWM, what works and what doesn’t, to learn from this in terms of their own activities and to share with oth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CE36-79E3-4790-B363-58BC3430248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novation is really about uptake. It is usually increased when people collabo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 who is innovating? What are they doing? What barriers do those face who would like to be more innovative but cannot? What would people like to try out but can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collaboration takes place? What networks are there? (This is also useful information for planning the establishment of learning platforms at woreda level which will take place next year as part of the project, to involve local actors in the research, share findings and offer a platform for discussion. If there are strong existing networks, we want to build on and not duplicate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 could innovation be increa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01CFD-20CF-4B88-8B1D-1D1C3B071A6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E5A2E-4E6B-4939-868A-233DA8AF2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9FCE2-6588-4044-BBE3-22817FCD3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13756-01DF-490F-91D8-2E062B53E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F7896-71DE-4A9F-A2C7-33784923E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D78B3-AC06-495A-9B13-1A0F4AEAC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70958-8C30-4E74-88AF-1418C3485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4A6C3-A24B-41A6-B1EE-0E011B842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DE690-B82F-46B4-B399-63F49BF54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8B71E-557B-4879-B255-FBAE30C78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9F98D-3393-41F2-BA36-42383B3C2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1839E-06D5-4C01-897D-49BEAE17A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8018F-F0A5-41D5-BF96-25571DE7E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46C1-658E-4836-A96C-5D9A20E99E4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Key questions for different ac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766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98989"/>
                </a:solidFill>
                <a:latin typeface="Calibri"/>
              </a:rPr>
              <a:t>CPWF Baseline Training, 8 November 20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Table 3" descr=""/>
          <p:cNvPicPr/>
          <p:nvPr/>
        </p:nvPicPr>
        <p:blipFill>
          <a:blip r:embed="rId1"/>
          <a:stretch/>
        </p:blipFill>
        <p:spPr>
          <a:xfrm>
            <a:off x="-73080" y="189000"/>
            <a:ext cx="9290160" cy="6553080"/>
          </a:xfrm>
          <a:prstGeom prst="rect">
            <a:avLst/>
          </a:prstGeom>
          <a:ln w="0">
            <a:noFill/>
          </a:ln>
        </p:spPr>
      </p:pic>
      <p:sp>
        <p:nvSpPr>
          <p:cNvPr id="51" name="TextBox 4"/>
          <p:cNvSpPr/>
          <p:nvPr/>
        </p:nvSpPr>
        <p:spPr>
          <a:xfrm>
            <a:off x="2050920" y="1989000"/>
            <a:ext cx="6769080" cy="4574520"/>
          </a:xfrm>
          <a:prstGeom prst="rect">
            <a:avLst/>
          </a:prstGeom>
          <a:solidFill>
            <a:srgbClr val="ffffff"/>
          </a:solidFill>
          <a:ln w="9360">
            <a:solidFill>
              <a:srgbClr val="4f81bd">
                <a:alpha val="30000"/>
              </a:srgbClr>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Collect information about how each actor plans, implements and innovates, what support they receive and what barriers they fac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Gather different perspectives on the planning, implementation and innovation of RWM</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Cross check responses across different actor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Planning questions</a:t>
            </a:r>
            <a:endParaRPr b="0" lang="en-US" sz="4400" spc="-1" strike="noStrike">
              <a:solidFill>
                <a:srgbClr val="000000"/>
              </a:solidFill>
              <a:latin typeface="Calibri"/>
            </a:endParaRPr>
          </a:p>
        </p:txBody>
      </p:sp>
      <p:sp>
        <p:nvSpPr>
          <p:cNvPr id="53" name=""/>
          <p:cNvSpPr txBox="1"/>
          <p:nvPr/>
        </p:nvSpPr>
        <p:spPr>
          <a:xfrm>
            <a:off x="324000" y="1341360"/>
            <a:ext cx="8434080" cy="49291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the role of each actor in planning RWM? </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are decisions made about where different RWM practices are applied, which technologies are used, how they are financed,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do different actors coordinate their planning?</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much say do non-government actors (farmers, NGOs, private sector) have in planning of RWM?</a:t>
            </a:r>
            <a:endParaRPr b="0" lang="en-US" sz="2400" spc="-1" strike="noStrike">
              <a:solidFill>
                <a:srgbClr val="000000"/>
              </a:solidFill>
              <a:latin typeface="Calibri"/>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 planners have a good understanding of farmers’ needs?</a:t>
            </a:r>
            <a:endParaRPr b="0" lang="en-US" sz="2400" spc="-1" strike="noStrike">
              <a:solidFill>
                <a:srgbClr val="000000"/>
              </a:solidFill>
              <a:latin typeface="Calibri"/>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nformation is used in planning RW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Implementation questions</a:t>
            </a:r>
            <a:endParaRPr b="0" lang="en-US" sz="4400" spc="-1" strike="noStrike">
              <a:solidFill>
                <a:srgbClr val="000000"/>
              </a:solidFill>
              <a:latin typeface="Calibri"/>
            </a:endParaRPr>
          </a:p>
        </p:txBody>
      </p:sp>
      <p:sp>
        <p:nvSpPr>
          <p:cNvPr id="55" name=""/>
          <p:cNvSpPr txBox="1"/>
          <p:nvPr/>
        </p:nvSpPr>
        <p:spPr>
          <a:xfrm>
            <a:off x="0" y="1241280"/>
            <a:ext cx="9144000" cy="56167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RWM is currently being implemented?</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the role of each actor in implementing RWM?</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do different actors coordinate their implementation?</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level of knowledge/capacity do implementers have on RWM?</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support do implementers receive on RWM, and from who (e.g. DAs to farmers, Woreda Experts to DAs)? Is the support sufficient?</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 are RWM experiences monitored, shared and used for learning to inform future plann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Innovation questions</a:t>
            </a:r>
            <a:endParaRPr b="0" lang="en-US" sz="4400" spc="-1" strike="noStrike">
              <a:solidFill>
                <a:srgbClr val="000000"/>
              </a:solidFill>
              <a:latin typeface="Calibri"/>
            </a:endParaRPr>
          </a:p>
        </p:txBody>
      </p:sp>
      <p:sp>
        <p:nvSpPr>
          <p:cNvPr id="57" name=""/>
          <p:cNvSpPr txBox="1"/>
          <p:nvPr/>
        </p:nvSpPr>
        <p:spPr>
          <a:xfrm>
            <a:off x="250560" y="1267920"/>
            <a:ext cx="8569080" cy="5356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o is innovating in RW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support do they receive for innovation, and from wh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barriers are there to innovation  at different leve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o is collaborating to increase uptake of RW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networks currently exist and how do they func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the scope for organisations to collaborate for more innov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16:30:39Z</dcterms:created>
  <dc:creator>jtucker</dc:creator>
  <dc:description/>
  <dc:language>en-US</dc:language>
  <cp:lastModifiedBy>jtucker</cp:lastModifiedBy>
  <dcterms:modified xsi:type="dcterms:W3CDTF">2010-11-07T17:06:53Z</dcterms:modified>
  <cp:revision>13</cp:revision>
  <dc:subject/>
  <dc:title>Key questions for different actors</dc:title>
</cp:coreProperties>
</file>